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BEF1-2094-4D35-91F1-D21AEB906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6C4-DBCF-40A0-8E49-CA83559A32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D67C-0CCD-4AAF-9355-956E65E27B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AE4-08EA-4420-A442-2E9B298F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064-1300-4AE7-B712-DB26A76D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781-BBBC-499B-A5D1-15770C37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E43-85E2-4606-857D-7770D758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2B44-3E70-436F-9978-88227A38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96A9-B391-4090-8A4D-51F9536A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DDDB-EADC-4841-B00A-5C75E80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DE01-908D-4901-9DDF-B5872C6C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5977-E8ED-4D07-9D7F-5B673EA5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E532-CEB2-4936-8BC4-73049733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6A57-9BD1-41AB-8695-0A12A4B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4CA-611D-4A5C-9798-DFE67E1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FD54-B359-428C-A0DE-F9681EAE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CC50-2E7A-4734-87DB-4E8A05A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262F-CAA1-4F3E-8D83-9F7BCF3B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E3B3-64C6-4913-877D-5D795463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2DD8-3D96-48E7-8466-672B3FBA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338D-39A8-4C96-B532-AFFFFEBC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970C-B283-4371-B70B-F2C3233B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6B7D-7D99-4B4A-A398-8B7BA09B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C462-321C-4DDD-9138-73966936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4EB7-12BA-4C47-A31A-B575361C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BE4-D70A-4B2C-88A4-CB5E3103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4310-F81F-4F9E-964D-06C9D530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A28B-50BE-4602-AE31-F262F891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0C41-51D8-466F-98F1-8170C25A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C2AA-B6C6-4AD4-B593-39FDE2E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1861-B7D5-40BE-848B-89EBC1A4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CC52-D3F8-4735-B64E-6F6A5338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40077-0176-43A7-8B67-142AFF23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37BA-EB08-4D2A-97C9-579460F8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DBCC-259E-4BD7-BAD3-87509B34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4304-F1AA-4010-A4BA-7FED8DD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0CD-B898-4CE5-BF5A-312412BC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B292-8970-463A-80CE-834E2429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10DF-A218-40D8-8AF2-6D01D7D5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AC23A-D885-4DE9-BCFD-3C592821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EBAE-5F81-49A7-B40B-C04A2B43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185E6-AC39-4E1A-A280-60FDA4E2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F69F-7597-4398-9030-94626B5F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448D-3A8E-4EBA-A78C-A6EA6F4F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A3A1-D2A3-4C23-BA8F-6B6593A9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D06B-E5F5-442E-B0C8-58A7EE43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7DD-B8A6-4B64-9ACC-08E4F99C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4FB-BE01-4083-B4E9-1D74948D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C41-19DA-49CF-88A9-A461F09B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EBE-518D-4496-8300-88D8C1F8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881-5BE9-4EEB-907F-17B07E65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8CD9-111D-49DC-8AE9-B929444421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7D64-D08E-4B3B-9698-7C3F449DDE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FA70-7CC6-4788-8339-C53BB88B0C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C5FA-1648-4FAF-91B1-78214BFFE50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86994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8240" y="21333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На инактивном X хромозому постоји активан регио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89917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y Lyon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је 1971. допунила хипотезу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Остају активн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934640"/>
            <a:ext cx="6248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и у псеудоаутозомалном региону на врху кратког крака, као и други гени на кратком и другом краку Х хром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ошто више гена остаје активно на 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ку инактивног Х, делеције Хр узрокују много теже фенотипске ефекте него делеције 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Sex Chromosomes and Abnormalities Sex chromosomes At the"/>
          <p:cNvPicPr/>
          <p:nvPr/>
        </p:nvPicPr>
        <p:blipFill>
          <a:blip r:embed="rId1"/>
          <a:srcRect l="75003" t="23334" r="0" b="0"/>
          <a:stretch/>
        </p:blipFill>
        <p:spPr>
          <a:xfrm>
            <a:off x="6686640" y="1600200"/>
            <a:ext cx="21333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АЈОНИЗАЦИЈ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јав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да се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инактиви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ше нормалан X хромоз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а X који носи мутацију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ста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актива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тзв.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збегнута инактив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Х хромоз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 мутацијом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пољавање хемофилије код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етерозиготних же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X-здрава жена;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- преносилац;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болесна жен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ХАНИЗАМ ИНАКТИВАЦИЈЕ Х ХРОМОЗОМ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19810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егулисан је 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активационим центр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XIC)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ји се налаз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угом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рак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зома (Х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q13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XIST ген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XIST ген се транскрибује на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XIST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 РН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XIST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РНК се нагомилава дуж X хромозома и блокира га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Не преноси се на други X у нуклеус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товремено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кљ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чивање XIST локуса на активном 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зом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се обавља метилацијом XIST регулаторне секвенц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eтилација ДНК блокира eкспрeсију XIST генског локус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6730920" y="2743200"/>
          <a:ext cx="226080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0920" y="2743200"/>
                    <a:ext cx="226080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ОЛНОСТ КОД ЧОВЕК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етички пол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хромозомска конституција зигот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Гонадални пол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одређен је присуством гона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Фенотипски пол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спољашња манифестација пол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д човек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Женски по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хомогамета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све јајне ћелије садрже само Х хромоз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ушки по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хетерогамета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два типа сперматозоида: они који садрже Х и они који садрж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хромоз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Детерминација пол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и фертилизациј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Формирање бипотенцијалних гонад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, два сета одвојених канала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olf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ов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üller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-ов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) и недиференцираних спољних генитал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Диференцирање бипотенцијалних гонад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 бипотенцијална гонада се диференцира у тестис (код мушкараца, услед дејства продукта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RY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гена –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TDF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) или у оваријум (код жена, у одсуству продук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RY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ген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Диференцирање унутрашњих полних одвода и спољашњих генитал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цес полног развића код чове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Sex Determination in Mammals: Coordination by the Endocrine System"/>
          <p:cNvPicPr/>
          <p:nvPr/>
        </p:nvPicPr>
        <p:blipFill>
          <a:blip r:embed="rId1"/>
          <a:srcRect l="0" t="4446" r="0" b="0"/>
          <a:stretch/>
        </p:blipFill>
        <p:spPr>
          <a:xfrm>
            <a:off x="1143000" y="762120"/>
            <a:ext cx="66913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ЕСТИС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üller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ова инхибиторна супстанца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IS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ТЕСТОСТЕРОН (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Leydig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ов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ћелиј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toly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јеве ћелије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 рас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üller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ових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кана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 мушки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lf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вих кана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(епидидимис, семево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семене везикуле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ВАРИЈУ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I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тестостеро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üller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ових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кана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н рас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lf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вих кана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(јајоводи, материца, део вагине)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ће женских генитал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981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6"/>
          <p:cNvSpPr/>
          <p:nvPr/>
        </p:nvSpPr>
        <p:spPr>
          <a:xfrm flipH="1">
            <a:off x="2819160" y="6858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6324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5029200" y="685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9"/>
          <p:cNvSpPr/>
          <p:nvPr/>
        </p:nvSpPr>
        <p:spPr>
          <a:xfrm flipH="1">
            <a:off x="2057040" y="38862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5638680" y="3886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3244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-360" y="12952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мејоз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е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и п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шају као хомологи аутозоми, у профази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синапсир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а у анафази се</a:t>
            </a:r>
            <a:r>
              <a:rPr b="0" lang="sr-Latn-CS" sz="2200" spc="-1" strike="noStrike">
                <a:solidFill>
                  <a:srgbClr val="533ea9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раздвај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 терминалним деловима X и Y хромозома постоје мали региони који синапсирај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међу њима се дешава кросинг-овер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зивају се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псеудоаутозомални регион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(PAR)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Псеудоаутозомални регион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у добили назив по генима лоцираним у овим регионима, а наслеђивање које детерминишу је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слично аутозомалним геним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5" descr="y_140"/>
          <p:cNvPicPr/>
          <p:nvPr/>
        </p:nvPicPr>
        <p:blipFill>
          <a:blip r:embed="rId1"/>
          <a:stretch/>
        </p:blipFill>
        <p:spPr>
          <a:xfrm>
            <a:off x="0" y="0"/>
            <a:ext cx="1486080" cy="1293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1828800" y="228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ЛНИ ХРОМОЗОМИ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4" descr="Ychromosome2"/>
          <p:cNvPicPr/>
          <p:nvPr/>
        </p:nvPicPr>
        <p:blipFill>
          <a:blip r:embed="rId2"/>
          <a:stretch/>
        </p:blipFill>
        <p:spPr>
          <a:xfrm>
            <a:off x="7086600" y="4038480"/>
            <a:ext cx="1662120" cy="268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6"/>
          <p:cNvGraphicFramePr/>
          <p:nvPr/>
        </p:nvGraphicFramePr>
        <p:xfrm>
          <a:off x="7238880" y="990720"/>
          <a:ext cx="124308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990720"/>
                    <a:ext cx="12430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 Box 8"/>
          <p:cNvSpPr/>
          <p:nvPr/>
        </p:nvSpPr>
        <p:spPr>
          <a:xfrm>
            <a:off x="8001000" y="1752480"/>
            <a:ext cx="53352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8007480" y="2286000"/>
            <a:ext cx="37728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I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7925040" y="1143000"/>
            <a:ext cx="4885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7925040" y="3657600"/>
            <a:ext cx="4885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7232400" y="6324480"/>
            <a:ext cx="1435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хромоз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214040" y="817560"/>
            <a:ext cx="1443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Х хромоз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ПОЛНОСТ – ДИФЕРЕНЦИЈАЦИЈА ЈЕДИНКИ НА ЈЕДИНКЕ</a:t>
            </a:r>
            <a:r>
              <a:rPr b="1" lang="sr-Latn-CS" sz="2900" spc="-1" strike="noStrike">
                <a:solidFill>
                  <a:srgbClr val="000000"/>
                </a:solidFill>
                <a:latin typeface="Arial"/>
              </a:rPr>
              <a:t> МУШКОГ И ЖЕНСКОГ ПОЛА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ференцијација по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Хермафродитиза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Једнодомо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артеногенез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етерминација по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1. Прогамни тип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л се може предвидети пре оплођења на основу крупноће јај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пр. црви-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otatori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2. Епигамни тип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терминација пола се обавља после оплођења и зависи од услова околин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пр. црвуљак-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Bonellia viridis, Crepidula, Equisetu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3. Сингамни тип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одређивање пола обавља се у тренутку оплођења. Јавља се код човека, домаћих жовотиња и представља најраширенији тип детерминације пола.</a:t>
            </a:r>
            <a:r>
              <a:rPr b="0" lang="sr-CS" sz="2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rotentor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♂-XO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바탕"/>
              </a:rPr>
              <a:t>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 XX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♂-XY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바탕"/>
              </a:rPr>
              <a:t>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 XX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raxsa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♂-XX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바탕"/>
              </a:rPr>
              <a:t>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 X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Ychromosome2"/>
          <p:cNvPicPr/>
          <p:nvPr/>
        </p:nvPicPr>
        <p:blipFill>
          <a:blip r:embed="rId1"/>
          <a:stretch/>
        </p:blipFill>
        <p:spPr>
          <a:xfrm>
            <a:off x="63360" y="1689120"/>
            <a:ext cx="3111480" cy="5016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123720" y="182880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95% ге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Y хромозому се налази у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псеудоаутозомалним регионим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Мушкарци имају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две копије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гена псеудоаутозомалних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регио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Једну копиј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Y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зом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ру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зом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Y хром се налаз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гена који детерминишу продукцију протеина неопходних за све телесне ћелије, а други детерминишу протеине који остварују функције само у тестисим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5335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 ОДРЕЂУЈЕ ПОЛ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Ychromosome2"/>
          <p:cNvPicPr/>
          <p:nvPr/>
        </p:nvPicPr>
        <p:blipFill>
          <a:blip r:embed="rId1"/>
          <a:stretch/>
        </p:blipFill>
        <p:spPr>
          <a:xfrm>
            <a:off x="291960" y="1270080"/>
            <a:ext cx="2781360" cy="4851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428640" y="2666880"/>
            <a:ext cx="5715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Дока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Особе са реверзијом по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XX-мушкарци који имају тестис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XY- жене које немају тестис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895480" y="1371600"/>
            <a:ext cx="609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краку Y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хромозом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регион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11.3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лази се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SRY ген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x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detеrm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region Y)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кој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чествује 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ференцијацији тестис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КУС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X REGION ON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КЉУЧАН ЗА ДИФЕРЕНЦИЈАЦИЈУ ТЕСТИСА 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35.000 bp н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р крак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а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кодира полипептид од 223 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сели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транскрипциони факт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ТDF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(фактор диференцијације тестиса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његово присуство или одсуство одређује да ли ће се из бипотенцијалних гонада формирати тестис или оваријум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5" descr="Sex Development | BioNinja"/>
          <p:cNvPicPr/>
          <p:nvPr/>
        </p:nvPicPr>
        <p:blipFill>
          <a:blip r:embed="rId1"/>
          <a:stretch/>
        </p:blipFill>
        <p:spPr>
          <a:xfrm>
            <a:off x="2333520" y="4471920"/>
            <a:ext cx="4476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перматогене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-Yc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ген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а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аст зуб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аскулинизациј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762120" y="533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ЕНИ Н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ХРОМОЗОМ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04920" y="147744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ени з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антигене кодирај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амилиј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протеина специфичних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а по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H-Y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откривен трансплантациј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H-Yc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отривен помоћу цитотоксичних Т лимфоцит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смештен је на q краку Y хр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H-Y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одређује се серолошки и означава сe каo 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x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за пол специфич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антиг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налази с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 хромозому бр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6 код оба пола, али има 1000 пута већу експресију код мушкaрaцa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јер м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активност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под контролом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SRY ге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о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ше раст пло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0" y="38088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ТИГЕН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МА УЛОГУ У ДИФЕРЕНЦИЈАЦИЈИ ТЕСТИ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04920" y="2742840"/>
            <a:ext cx="777240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SS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дира једарни рецептор за хормон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Двострука доз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SS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увек узрокује диференцијацију оварију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вострука доз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 активном X супримирa дејств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R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ген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SS+S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DSS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2DSS+SRY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ТЕСТИ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ВАРИЈУ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0492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Х ХРОМОЗ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7900920" y="1828800"/>
          <a:ext cx="124308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0920" y="1828800"/>
                    <a:ext cx="12430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5"/>
          <p:cNvSpPr/>
          <p:nvPr/>
        </p:nvSpPr>
        <p:spPr>
          <a:xfrm>
            <a:off x="8081280" y="2895480"/>
            <a:ext cx="41400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8083800" y="3429000"/>
            <a:ext cx="37728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I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7451640" y="71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7692840" y="51055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 хромоз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457200" y="16002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јзначајнији региони који имају улогу 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цији оваријума су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q13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- XIC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21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- DS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одговоран за диференцијацију пола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286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WT1 ген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 11p13 (одговоран је за настанак Wilms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ов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тумора, а за време ембриогенезе експресију постиже у гениталном набору и на стадијуму фетуса у гонадама оба пола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– има кључну улогу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у диференцијацији оварију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F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а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бр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9q33 (регулише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продукцију полних хорм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OX9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лоциран је на 17q24-25 (учествује у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диференцијацији тести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 откривено је 14 SOX ген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6172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09480" y="5335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УТОЗОМНИ ХРОМОЗОМИ ТАКОЂЕ ИМАЈУ УЛОГУ У ДИФЕРЕНЦИЈАЦИЈИ ПОЛ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632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sr-RS" sz="2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sr-Latn-CS" sz="2200" spc="-1" strike="noStrike" u="sng">
                <a:solidFill>
                  <a:srgbClr val="c00000"/>
                </a:solidFill>
                <a:uFillTx/>
                <a:latin typeface="Arial"/>
              </a:rPr>
              <a:t>XX- фенотип муш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 кратком краку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ји је наслеђен од оца присутна 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еквенца Y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з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која садржи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RY ген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преко 80%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што је последица неправилног </a:t>
            </a:r>
            <a:r>
              <a:rPr b="0" i="1" lang="sr-Latn-RS" sz="2200" spc="-1" strike="noStrike">
                <a:solidFill>
                  <a:srgbClr val="000000"/>
                </a:solidFill>
                <a:latin typeface="Arial"/>
                <a:ea typeface="Arial"/>
              </a:rPr>
              <a:t>crossing over-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змеђу X и 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15-20% није утврђена секвенца SRY, а сматра се да је последица мутације на aутозомном хромозому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број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честалост 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0 000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а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же су висине, имају тестис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рок може да буде транслокација између X и 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057400" y="304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ЕВЕРЗИЈА ПО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5" descr="Wk 8 Sexual Differentiation Flashcards | Quizlet"/>
          <p:cNvPicPr/>
          <p:nvPr/>
        </p:nvPicPr>
        <p:blipFill>
          <a:blip r:embed="rId1"/>
          <a:srcRect l="75797" t="0" r="0" b="0"/>
          <a:stretch/>
        </p:blipFill>
        <p:spPr>
          <a:xfrm>
            <a:off x="8077320" y="1143000"/>
            <a:ext cx="876240" cy="197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Genetic Syndromes Part 1 and 2 Dr Tabrez"/>
          <p:cNvPicPr/>
          <p:nvPr/>
        </p:nvPicPr>
        <p:blipFill>
          <a:blip r:embed="rId2"/>
          <a:srcRect l="11764" t="47718" r="17648" b="0"/>
          <a:stretch/>
        </p:blipFill>
        <p:spPr>
          <a:xfrm>
            <a:off x="6095880" y="4152960"/>
            <a:ext cx="2743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x-y"/>
          <p:cNvPicPr/>
          <p:nvPr/>
        </p:nvPicPr>
        <p:blipFill>
          <a:blip r:embed="rId1"/>
          <a:stretch/>
        </p:blipFill>
        <p:spPr>
          <a:xfrm>
            <a:off x="228600" y="990720"/>
            <a:ext cx="3581280" cy="5526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89" name=""/>
          <p:cNvSpPr txBox="1"/>
          <p:nvPr/>
        </p:nvSpPr>
        <p:spPr>
          <a:xfrm>
            <a:off x="3657600" y="13712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рмално се </a:t>
            </a:r>
            <a:r>
              <a:rPr b="0" i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сеудоаутозомал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егион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 и Y хром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з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Неправилним </a:t>
            </a:r>
            <a:r>
              <a:rPr b="0" i="1" lang="sr-Latn-RS" sz="2400" spc="-1" strike="noStrike">
                <a:solidFill>
                  <a:srgbClr val="c00000"/>
                </a:solidFill>
                <a:latin typeface="Arial"/>
                <a:ea typeface="Arial"/>
              </a:rPr>
              <a:t>crossing over-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ом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SRY ген пре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е на X хромоз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 као последица мозаицизма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45,Х0/46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;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једном случају је доказано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осталих је детектована секвенца Y хромозома на аутозому, а никада на X.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Последица је транслокације између Y и кратких секвенци аутозом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ко је транслокацијом обухваћен само SRY ге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мушкарац је инфертилан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ма сперматогене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ко је 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ом обухваће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 дужа секвенца 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SR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и ген за сперматогензу), мушкарац је фенотипски нормалан и фертила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али број особа до данас има ову реверзиј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25146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533520" y="533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45,ХО – мушкарц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100" spc="-1" strike="noStrike">
                <a:solidFill>
                  <a:srgbClr val="080808"/>
                </a:solidFill>
                <a:latin typeface="Arial"/>
                <a:ea typeface="Arial"/>
              </a:rPr>
              <a:t>БАРОВО ТЕЛО </a:t>
            </a:r>
            <a:br>
              <a:rPr sz="4100"/>
            </a:br>
            <a:r>
              <a:rPr b="1" lang="sr-Latn-CS" sz="4100" spc="-1" strike="noStrike">
                <a:solidFill>
                  <a:srgbClr val="080808"/>
                </a:solidFill>
                <a:latin typeface="Arial"/>
                <a:ea typeface="Arial"/>
              </a:rPr>
              <a:t>– ПОЛНИ ХРОМАТИН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женке сисара имају два 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з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а мужјаци само једа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 постоји разлика у експресији гена везаних за X хромоз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доз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на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 компензација ген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Mery Lyon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1961, 1963) - поставила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хипотезу о доз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ној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 компензацији ге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Barr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Bertram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1949) - Барово тел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рово тело се јасно види и у интерфазним једрима телесних ћелија же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амније се боји базним бојама и најкасније се реплици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Y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е 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зроци настанк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R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елеција или тачкаста мута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x DSS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упликациј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OX9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еле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она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оваријуми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лни одвод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женс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енот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женски,  аменореја, стерилн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, слабо развијене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е полне карактеристи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Ч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ИСТА ГОНАДНА ДИСГЕНЕЗА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ема телесне од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е Тарне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убрзана је атрезија фолику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5" descr="Wk 8 Sexual Differentiation Flashcards | Quizlet"/>
          <p:cNvPicPr/>
          <p:nvPr/>
        </p:nvPicPr>
        <p:blipFill>
          <a:blip r:embed="rId1"/>
          <a:srcRect l="44214" t="0" r="24211" b="0"/>
          <a:stretch/>
        </p:blipFill>
        <p:spPr>
          <a:xfrm>
            <a:off x="7213680" y="1066680"/>
            <a:ext cx="1160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 хермафродит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хермафродит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914400" y="53352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ЕРМАФРОДИТИЗ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ВОПОЛНОСТ КОД ЉУДИ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 ХЕРМАФРОДИТИЗА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онаде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варијум + тестис  (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ово-тести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лни одводи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ешовити (материца ?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пољашњи полни органи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мбивалентни (неодр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ни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дгајају се у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ушком пол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а конституција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  (60%) ,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/XY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 резултат химериз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Diagram 3" descr=""/>
          <p:cNvPicPr/>
          <p:nvPr/>
        </p:nvPicPr>
        <p:blipFill>
          <a:blip r:embed="rId1"/>
          <a:stretch/>
        </p:blipFill>
        <p:spPr>
          <a:xfrm>
            <a:off x="-1003320" y="406440"/>
            <a:ext cx="1045224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228600" y="18288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4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X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она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тестис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лони одвод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одсутн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енот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женс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аменореја, стерилно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нема Барово тел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Узрок: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МУТАЦИЈА ГЕНА ЗА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РЕЦЕПТОР ЗА ТЕСТОСТЕРОН (Xq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6" descr="test-fem"/>
          <p:cNvPicPr/>
          <p:nvPr/>
        </p:nvPicPr>
        <p:blipFill>
          <a:blip r:embed="rId1"/>
          <a:stretch/>
        </p:blipFill>
        <p:spPr>
          <a:xfrm>
            <a:off x="5465880" y="1920960"/>
            <a:ext cx="2403360" cy="44337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sp>
        <p:nvSpPr>
          <p:cNvPr id="303" name="Text Box 7"/>
          <p:cNvSpPr/>
          <p:nvPr/>
        </p:nvSpPr>
        <p:spPr>
          <a:xfrm>
            <a:off x="304920" y="5335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УШКИ ПСЕУДОХЕРМАФРОДИТИЗА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СТИКУЛАРНА ФЕМИНИЗАЦИЈ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НСКИ ПСЕУДОХЕРМАФРОДИТИЗА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1295280"/>
            <a:ext cx="8991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КОНГЕНИТАЛНА АДРЕНАЛНА ХИПЕРПЛАЗИЈА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(адрено-генитални синдром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а конститу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46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она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оварију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лни одвод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женс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енот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недиференциран полни орган, маскулинизовано тел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Лучење мушких полних хормо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з увећане коре надбубрежн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жлезд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Узрок: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генска му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т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ација 21-OH или CYP21 на хром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озому број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6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(недостатак ензима 21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х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дро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кс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ла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з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е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Image Preview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1371600" y="1143000"/>
            <a:ext cx="5486400" cy="5715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ЖЕНСКИ ПСЕУДОХЕРМАФРОДИТИЗ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600" y="30456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МИКРОСКОПСКИ ПРЕПАРАТИ ИНТЕРФАЗЕ ТЕЛЕСНИХ ЋЕЛИЈА ЉУД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Barr_Bodies"/>
          <p:cNvPicPr/>
          <p:nvPr/>
        </p:nvPicPr>
        <p:blipFill>
          <a:blip r:embed="rId1"/>
          <a:stretch/>
        </p:blipFill>
        <p:spPr>
          <a:xfrm>
            <a:off x="0" y="2286000"/>
            <a:ext cx="91947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ЗАКЉУЧЦИ MARY LYON ХИПОТЕЗ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телесним ћелијама сисара увек је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активан само јед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X хромоз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активни X хромозом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потиче било од оца било од мај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различитим ћелијама истог организ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активација X хром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з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настаје у раном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ембрионалном развићу (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између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15.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 и 16. дана гестације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све ћелије које воде порекло од те ћелије имају исти активан или неактиван X хромозом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ДРУГИ ЗАКЉУЧАК ХИПОТЕЗ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Types Of Genetic Disease - ppt video online download"/>
          <p:cNvPicPr/>
          <p:nvPr/>
        </p:nvPicPr>
        <p:blipFill>
          <a:blip r:embed="rId1"/>
          <a:srcRect l="45834" t="6665" r="2501" b="4445"/>
          <a:stretch/>
        </p:blipFill>
        <p:spPr>
          <a:xfrm>
            <a:off x="228600" y="1523880"/>
            <a:ext cx="3670200" cy="4737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The Chromosomal Basis of Inheritance - ppt download"/>
          <p:cNvPicPr/>
          <p:nvPr/>
        </p:nvPicPr>
        <p:blipFill>
          <a:blip r:embed="rId2"/>
          <a:srcRect l="23337" t="0" r="23337" b="0"/>
          <a:stretch/>
        </p:blipFill>
        <p:spPr>
          <a:xfrm>
            <a:off x="4191120" y="1523880"/>
            <a:ext cx="455616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9"/>
          <p:cNvGraphicFramePr/>
          <p:nvPr/>
        </p:nvGraphicFramePr>
        <p:xfrm>
          <a:off x="2236680" y="762120"/>
          <a:ext cx="47973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762120"/>
                    <a:ext cx="4797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895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рнеров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45, XО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не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Барово тел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ефелтеров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47, XXY (има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јед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Барово тел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 X синдром 47,XXX (има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два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рова тел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а жена 46,X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има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јед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арово тел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04920" y="2362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И КОЈИ ИДУ У ПРИЛОГ ХИПОТЕЗ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53352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рмална же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6,X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има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јед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арово 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рмалан мушкарац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46, XY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не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Барово тел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НЕДОСТАЦИ ХИПОТЕЗЕ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колико се инактивише цео 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е треба да постоји разлика између нормалне жене и жене са Тарнеровим синдромо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Хетерозиготи за одређене гене смештене на Х хромозомима су функционални мозаиц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пр. ензим глукозо-6-фосфат-дехидрогеназа 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6PD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). Мушкарци са једним Х хромозомом имају само једну варијанту ензима, док жене због присуства два Х хромозома имају по две форме истог ензим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29:07Z</dcterms:created>
  <dc:creator>prodekan 01</dc:creator>
  <dc:description/>
  <dc:language>en-US</dc:language>
  <cp:lastModifiedBy>Microsoft Office User</cp:lastModifiedBy>
  <dcterms:modified xsi:type="dcterms:W3CDTF">2022-01-17T13:51:09Z</dcterms:modified>
  <cp:revision>249</cp:revision>
  <dc:subject/>
  <dc:title>V-   MEHANIZAM DETERMINACIJE POLA</dc:title>
</cp:coreProperties>
</file>